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38D1-CFF4-4842-AC1F-7EA26485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5CC2-9949-4BCA-B47A-0FDE9683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0D0D-5A3D-4085-ADD3-22A714F3D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9EEC-AE19-42BA-8D5E-C9F81DB63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E253-6AD6-42E0-96E7-59438BC2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78AD-0B0F-49FD-A059-7CD65A37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0EEE-2635-4ADC-96D5-EDD305F0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D5F4-B877-42D9-9594-C7115A5B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5EA6-E5B2-4F23-8CC7-358DFADC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0832-7E07-4012-9511-CC8647DE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2D78-7280-4EE4-89A7-53578BAC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75B0-02AA-4803-9199-60FAD545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899D-B5D8-4B2F-AB74-EB0606B0F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0"/>
            <a:ext cx="6248160" cy="75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حمدَ رددوا لله ربِّنا ولنتلُ دائماً من عمقِ قلبِنا يحيا المسي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نادوا بملكه كلُ العوالم يحيا مليكُنا يحيا المسي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28600"/>
            <a:ext cx="3200400" cy="12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ليلُ دامسُ والقلبُ قاتمٌ كالشمسِ مِن علِ يسوعُ قادمُ يحيا  المسي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يسوعُ للسما حيثُ السعاده حقاً طريقُنا يحيا المسي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95560" y="228600"/>
            <a:ext cx="5248440" cy="6629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228600"/>
            <a:ext cx="3809880" cy="74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قد ضلَّ جِنسنا والموتُ أُعلِن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يا ربُ مَنْ لَنا سلوى لحُزنِنا يحيا المسي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يسوعُ قد محا بالصلبِ موتَنا أضحى حياتَنا يحيا المسي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0T13:40:21Z</dcterms:created>
  <dc:creator>HANI SAFI</dc:creator>
  <dc:description/>
  <dc:language>en-US</dc:language>
  <cp:lastModifiedBy>HANI SAFI</cp:lastModifiedBy>
  <dcterms:modified xsi:type="dcterms:W3CDTF">2003-05-30T13:40:32Z</dcterms:modified>
  <cp:revision>1</cp:revision>
  <dc:subject/>
  <dc:title>Slide 1</dc:title>
</cp:coreProperties>
</file>